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A694-9274-4E49-993D-28E49DA3F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C3B9-9E6B-4346-BDC1-BC7B88336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E81D-7D54-4BB2-A9B2-92441C521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2CA7-9241-4D85-924A-EE96F1E1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5081-C98D-45FB-B312-F89CBC5B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4794-9CA8-42AF-B294-0F2D6F90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86E-A582-4703-8174-7A03C429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2AE6-DB69-4CEB-92B6-925AD849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9AFF-0BFF-4DF2-8207-2B35494E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E3A8-4F9A-44DC-83BE-45A0AB5D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64A0-0497-48F5-945F-84B49870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9291-F705-4DEF-B5E3-AF1DC573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9BA-686F-4793-B0B6-A5E1E5D5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A1D8-E897-46D2-A702-67A87EDA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582F-D9A4-4F92-BF2A-DBB17E2D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723A-B2F9-48AB-9E04-002F6AF0F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jectory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487C-B068-4BE2-A1F6-9E9B7D463B4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cceleration profile for cubic polynomial traj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tlab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yms 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ddot=-180+360*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=[0:0.01:1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ot(t,subs(qddot,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xlabel('Time sec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ylabel(’Acceleration(deg/s2)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1446120" y="2681280"/>
                <a:ext cx="171468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8" name="Picture 6" descr="untitled"/>
          <p:cNvPicPr/>
          <p:nvPr/>
        </p:nvPicPr>
        <p:blipFill>
          <a:blip r:embed="rId1"/>
          <a:stretch/>
        </p:blipFill>
        <p:spPr>
          <a:xfrm>
            <a:off x="4038480" y="2666880"/>
            <a:ext cx="45291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HW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A single link robot with a rotary joint is at </a:t>
            </a:r>
            <a:r>
              <a:rPr b="1" i="1" lang="az-Cyrl-AZ" sz="2800" spc="-1" strike="noStrike">
                <a:solidFill>
                  <a:srgbClr val="000000"/>
                </a:solidFill>
                <a:latin typeface="Arial"/>
              </a:rPr>
              <a:t>Ө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15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ْ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grees. It is desired to move the joint in a smooth manner to </a:t>
            </a:r>
            <a:r>
              <a:rPr b="1" i="1" lang="az-Cyrl-AZ" sz="2800" spc="-1" strike="noStrike">
                <a:solidFill>
                  <a:srgbClr val="000000"/>
                </a:solidFill>
                <a:latin typeface="Arial"/>
              </a:rPr>
              <a:t>Ө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75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ْ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 3 sec. Find the coefficeints of a cubic to bring the manipulator to rest at the go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2286000" y="3962520"/>
                <a:ext cx="3200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617400" y="4724280"/>
                <a:ext cx="6891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deg/sec,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W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ask is to take the end point of the RR robot from (0.5, 0.0, 0.0) to (0.5, 0.3, 0.0) in the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ame in a period of 5 seconds.  Assume the robot is at rest at the starting point and should come to come to a complete stop at the final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Given the 6 constraints: (n=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990720" y="2362320"/>
                <a:ext cx="6629400" cy="25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</m:eqAr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the start time       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the end time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,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nd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re the initial position , velocity and acceleration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,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nd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re the final position , velocity and acceleratio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Quintic Traj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6 coefficients (6 constra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efine the trajectory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q(t)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to be a polynomial of degree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The desired 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The desired 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2286000" y="3583080"/>
                <a:ext cx="32004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5"/>
              <p:cNvSpPr txBox="1"/>
              <p:nvPr/>
            </p:nvSpPr>
            <p:spPr>
              <a:xfrm>
                <a:off x="1994040" y="4724280"/>
                <a:ext cx="3708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2033640" y="5638680"/>
                <a:ext cx="33526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valautation of the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IE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coeff to satify the const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0"/>
              <p:cNvSpPr txBox="1"/>
              <p:nvPr/>
            </p:nvSpPr>
            <p:spPr>
              <a:xfrm>
                <a:off x="1143000" y="2743200"/>
                <a:ext cx="4419720" cy="28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mbined the six equations into a single matrix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914400" y="2209680"/>
                <a:ext cx="6524640" cy="39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3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4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5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3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4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5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5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mbined the six equations into a single matrix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779400" y="2435400"/>
                <a:ext cx="6794640" cy="34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3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4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5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3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4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5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Linear segments with parabolic b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e want the middle part of the trajectory to have a constant velocity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mp up to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inear seg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mp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untitled"/>
          <p:cNvPicPr/>
          <p:nvPr/>
        </p:nvPicPr>
        <p:blipFill>
          <a:blip r:embed="rId1"/>
          <a:stretch/>
        </p:blipFill>
        <p:spPr>
          <a:xfrm>
            <a:off x="3962520" y="2819520"/>
            <a:ext cx="481968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jectory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rajectory is a function of tim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q(t) s.t. q(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)=q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nd q(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)=q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f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: time taken to execute the trajec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oint to point motion: plan a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jectory from the initial configuratio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q(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the final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q(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In some cases, there may be constraints (for example: if the robot must begin and end with zero veloc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oose the trajectory of polynomial of degree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if you have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n+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onstra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x (1):Given the 4 constraints: (n=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1295280" y="3657600"/>
                <a:ext cx="4724640" cy="21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</m:eqAr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the start time       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the end time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re the initial position and velocity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re the final position and velocit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Cubic Traj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4 coefficients (4 constra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efine the trajectory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q(t)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to be a polynomial of degree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The desired 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5"/>
              <p:cNvSpPr txBox="1"/>
              <p:nvPr/>
            </p:nvSpPr>
            <p:spPr>
              <a:xfrm>
                <a:off x="2286000" y="3505320"/>
                <a:ext cx="3200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7"/>
              <p:cNvSpPr txBox="1"/>
              <p:nvPr/>
            </p:nvSpPr>
            <p:spPr>
              <a:xfrm>
                <a:off x="2317680" y="4952880"/>
                <a:ext cx="23734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valuation of the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IE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coeff to satify the const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2895480" y="2133720"/>
                <a:ext cx="18288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1157400" y="4800600"/>
                <a:ext cx="51116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2057400" y="4114800"/>
                <a:ext cx="25909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1"/>
              <p:cNvSpPr txBox="1"/>
              <p:nvPr/>
            </p:nvSpPr>
            <p:spPr>
              <a:xfrm>
                <a:off x="1295280" y="2743200"/>
                <a:ext cx="490068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mbined the four equations into a single matrix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1219320" y="2819520"/>
                <a:ext cx="45100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3</m:t>
                              </m:r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3</m:t>
                              </m:r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1"/>
              <p:cNvSpPr txBox="1"/>
              <p:nvPr/>
            </p:nvSpPr>
            <p:spPr>
              <a:xfrm>
                <a:off x="990720" y="3200400"/>
                <a:ext cx="17269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533520" y="2286000"/>
                <a:ext cx="7059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deg/sec,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4"/>
              <p:cNvSpPr txBox="1"/>
              <p:nvPr/>
            </p:nvSpPr>
            <p:spPr>
              <a:xfrm>
                <a:off x="3962520" y="3200400"/>
                <a:ext cx="18288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7"/>
              <p:cNvSpPr txBox="1"/>
              <p:nvPr/>
            </p:nvSpPr>
            <p:spPr>
              <a:xfrm>
                <a:off x="914400" y="4343400"/>
                <a:ext cx="2158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8"/>
              <p:cNvSpPr txBox="1"/>
              <p:nvPr/>
            </p:nvSpPr>
            <p:spPr>
              <a:xfrm>
                <a:off x="1143000" y="4876920"/>
                <a:ext cx="31575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ubic polynomial traj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tlab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yms 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=10-90*t^2+60*t^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=[0:0.01:1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ot(t,subs(q,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xlabel('Time sec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ylabel('Angle(deg)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1447920" y="2362320"/>
                <a:ext cx="20574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80" name="Picture 5" descr="untitled"/>
          <p:cNvPicPr/>
          <p:nvPr/>
        </p:nvPicPr>
        <p:blipFill>
          <a:blip r:embed="rId1"/>
          <a:stretch/>
        </p:blipFill>
        <p:spPr>
          <a:xfrm>
            <a:off x="4038480" y="2666880"/>
            <a:ext cx="45435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Velocity profile for cubic polynomial traj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tlab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yms 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dot=-180*t+180*t^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=[0:0.01:1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ot(t,subs(qdot,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xlabel('Time sec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ylabel(’velocity(deg/s)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4"/>
              <p:cNvSpPr txBox="1"/>
              <p:nvPr/>
            </p:nvSpPr>
            <p:spPr>
              <a:xfrm>
                <a:off x="1527120" y="2362320"/>
                <a:ext cx="18986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84" name="Picture 8" descr="untitled"/>
          <p:cNvPicPr/>
          <p:nvPr/>
        </p:nvPicPr>
        <p:blipFill>
          <a:blip r:embed="rId1"/>
          <a:stretch/>
        </p:blipFill>
        <p:spPr>
          <a:xfrm>
            <a:off x="3962520" y="2666880"/>
            <a:ext cx="455760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yssam</cp:lastModifiedBy>
  <dcterms:modified xsi:type="dcterms:W3CDTF">2008-04-13T00:17:25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